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6D11-8586-435B-92CD-327E79AE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83FB-A73A-4A6F-8683-981A26A2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0318-2A05-4FE1-9996-C2CB82E5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9595-C947-4D3D-8026-F44D6F98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A75-D77C-4330-83D5-496F82DE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976-0B8B-4992-ACB0-5DCF52E4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2AF-E240-4E21-86D9-4ABF0E8F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E091-7B72-4295-916A-0D0D2AF8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457-EE80-4426-A228-4E16DB37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A5C0-34D2-4B7F-9934-B56B2B3C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7A7B-3BAD-4FD7-B153-D0A07F2B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2E0-88B4-4B64-806E-79C80701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BDFF-9421-4B50-A869-EB58A32C4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Profesional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0000"/>
                </a:solidFill>
                <a:latin typeface="Arial"/>
              </a:rPr>
              <a:t>orijentacija na prelasku u srednju školu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28600" y="9144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26920" y="1628640"/>
            <a:ext cx="7010640" cy="44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Na kraju školske 2011/12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20 obučenih tročla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Najmanje 100 x 22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mentorskih škola-14 MOŠ 1 i  12 MOŠ 2 sa petočlanim timovim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180 BOŠ 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KONKURS ZA BUDUĆE TRENERE PO iz timova MOŠ/BOŠ i koordinatora RC koji su prošli obuku i R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Izgrađena mreža škola i partner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22860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914040"/>
            <a:ext cx="822960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Kroz obuke i mentorstvo u Projektu   obezbeđujemo LJUDSKI RESURS PO: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6920" y="1484280"/>
            <a:ext cx="70106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Na kraju školske 2012/13.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Uz 220 još 400  obučen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Iz 620 škola  po 100 učenika koji su prošli program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 + .... mentorskih škola-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26 +...Vršnjačkih timova 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520 BOŠ škola koje razvijaju mrežu Po ško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OBUČENI  TRENERI  za PO obuku u svakom regionu i R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Razrađena mreža PO škola i partnera-postoje protokoli i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286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ff0000"/>
                </a:solidFill>
                <a:latin typeface="Arial"/>
              </a:rPr>
              <a:t>Na kraju treće godine Projekta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PO Program u svih 1104 škole Srbij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drživost kvaliteta garantuju profesionalci –PO timovi u svih 1104 škole :BOŠ/MO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Obučeni treneri : 22 trenera iz inicijalne grupe i 11 parova trenera-po svakom RC jedan trenerski par(iz RC i iz školskog ti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808080"/>
                </a:solidFill>
                <a:latin typeface="Arial"/>
              </a:rPr>
              <a:t>MREŽA PO STABIL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5912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76212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Cilj mentorstva je 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920" y="134100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eformalni prenos relevantnih znanja, veština, iskustva i psihosociјalne podrške za kariјeru i/ili profesionalni razvo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vosmernu razmenu ideja, informacija, koja stimuliše sposobnosti pojedinca/grup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da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č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iz faza koje se kreću od opažanja, pokazivanja svoje prakse i učenja po modelu, do vođene prakse i, na kraju, do samostalne primene</a:t>
            </a:r>
            <a:r>
              <a:rPr b="1" lang="fr-FR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aučen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34440" y="2060640"/>
            <a:ext cx="1609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8610480" cy="6591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0666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0000"/>
                </a:solidFill>
                <a:latin typeface="Arial"/>
              </a:rPr>
              <a:t>Dobar mentorski program</a:t>
            </a: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83059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dobar sistem podrške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i/mentorke (i početnici/početnice) obezbeđuju dovoljno vremena z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Mentorski program je jasan sv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overljivost u mentorskom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Postoji praćenje rada pa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Postoji merenje rezult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67640" y="3789360"/>
            <a:ext cx="111456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2480" y="0"/>
            <a:ext cx="8291520" cy="659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2"/>
          <a:stretch/>
        </p:blipFill>
        <p:spPr>
          <a:xfrm rot="20382600">
            <a:off x="971280" y="2565000"/>
            <a:ext cx="230004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3"/>
          <a:stretch/>
        </p:blipFill>
        <p:spPr>
          <a:xfrm rot="20270400">
            <a:off x="2411280" y="2060280"/>
            <a:ext cx="2300400" cy="2361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35640" y="1295280"/>
            <a:ext cx="34034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N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z faz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INICIJALNA FA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Definisati cilje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tvrd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trukturu,sadržaj, bro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sastan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2.REALIZAC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obezediti napred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3.FINAL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Dogovor kako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vršiti 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kada su ciljevi postig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24000" y="620640"/>
            <a:ext cx="16761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rvi krug obuk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group mentoring"/>
          <p:cNvPicPr/>
          <p:nvPr/>
        </p:nvPicPr>
        <p:blipFill>
          <a:blip r:embed="rId2"/>
          <a:stretch/>
        </p:blipFill>
        <p:spPr>
          <a:xfrm>
            <a:off x="5651640" y="1125360"/>
            <a:ext cx="2736720" cy="1944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8360" y="2708280"/>
            <a:ext cx="6858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rener B/mentor daje podršku  MOŠ timu   za  zadat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1. Razrađen plan implementacije PO u MOŠ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2. Formiranje Vršnjačkofg tima 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3. Izgrađivanje partnerskih odnosa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4. Umrežavanje sa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5. Priprema tima MOŠ 1 za mentorisanje 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55736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entor kreira svoj plan mentorstva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6443640" y="3500280"/>
            <a:ext cx="124776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12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Arial"/>
              </a:rPr>
              <a:t>Drugi  krug obuk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group mentoring"/>
          <p:cNvPicPr/>
          <p:nvPr/>
        </p:nvPicPr>
        <p:blipFill>
          <a:blip r:embed="rId2"/>
          <a:stretch/>
        </p:blipFill>
        <p:spPr>
          <a:xfrm>
            <a:off x="611280" y="1700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3645000"/>
            <a:ext cx="867564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Trener B/mentor i dalje mentoriše MOŠ 1 tim, posredno MOŠ 2 t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daje podršku MOŠ 1 da izradi plan mentorstva za 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podržava zajedničke susrete i razmenu iskustva MOŠ 1 –MOŠ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 MOŠ 1 i MOŠ 2 ostvaruju tesnu saradn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Mentorisanje i vodjenje  MOŠ2 prelazi u ruke tima  MOŠ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-zajedno grade mrežu partnerstva PO/partneri/BOŠ/MO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group mentoring"/>
          <p:cNvPicPr/>
          <p:nvPr/>
        </p:nvPicPr>
        <p:blipFill>
          <a:blip r:embed="rId3"/>
          <a:stretch/>
        </p:blipFill>
        <p:spPr>
          <a:xfrm>
            <a:off x="6156360" y="1484280"/>
            <a:ext cx="2087640" cy="17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700360" y="2276640"/>
            <a:ext cx="3311640" cy="1223640"/>
          </a:xfrm>
          <a:prstGeom prst="leftRightArrow">
            <a:avLst>
              <a:gd name="adj1" fmla="val 50000"/>
              <a:gd name="adj2" fmla="val 538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MOŠ 1 mentoriše MOŠ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group mentoring"/>
          <p:cNvPicPr/>
          <p:nvPr/>
        </p:nvPicPr>
        <p:blipFill>
          <a:blip r:embed="rId2"/>
          <a:stretch/>
        </p:blipFill>
        <p:spPr>
          <a:xfrm>
            <a:off x="250920" y="1916280"/>
            <a:ext cx="3352680" cy="2376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group mentoring"/>
          <p:cNvPicPr/>
          <p:nvPr/>
        </p:nvPicPr>
        <p:blipFill>
          <a:blip r:embed="rId3"/>
          <a:stretch/>
        </p:blipFill>
        <p:spPr>
          <a:xfrm>
            <a:off x="5796000" y="1773360"/>
            <a:ext cx="3003480" cy="2519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0200" y="4437000"/>
            <a:ext cx="871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preuzima ulogu mentora za MOŠ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zradio plan mentorstva / razradio oblast specijalizacije; ima primere dobre praks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 i MOŠ 2 povezuju Vršnjačke timove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500280"/>
            <a:ext cx="2666880" cy="838440"/>
          </a:xfrm>
          <a:prstGeom prst="leftRightArrow">
            <a:avLst>
              <a:gd name="adj1" fmla="val 50000"/>
              <a:gd name="adj2" fmla="val 633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132000" y="1700280"/>
            <a:ext cx="792360" cy="649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219640" y="162864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entor MOŠ pomaže MOŠ 1/2 da se povežu u partnerstvu sa BOŠ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group mentoring"/>
          <p:cNvPicPr/>
          <p:nvPr/>
        </p:nvPicPr>
        <p:blipFill>
          <a:blip r:embed="rId2"/>
          <a:stretch/>
        </p:blipFill>
        <p:spPr>
          <a:xfrm>
            <a:off x="395280" y="1341360"/>
            <a:ext cx="1873080" cy="1827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group mentoring"/>
          <p:cNvPicPr/>
          <p:nvPr/>
        </p:nvPicPr>
        <p:blipFill>
          <a:blip r:embed="rId3"/>
          <a:stretch/>
        </p:blipFill>
        <p:spPr>
          <a:xfrm>
            <a:off x="395280" y="3500280"/>
            <a:ext cx="1871640" cy="1825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group mentoring"/>
          <p:cNvPicPr/>
          <p:nvPr/>
        </p:nvPicPr>
        <p:blipFill>
          <a:blip r:embed="rId4"/>
          <a:stretch/>
        </p:blipFill>
        <p:spPr>
          <a:xfrm>
            <a:off x="6659640" y="1413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group mentoring"/>
          <p:cNvPicPr/>
          <p:nvPr/>
        </p:nvPicPr>
        <p:blipFill>
          <a:blip r:embed="rId5"/>
          <a:stretch/>
        </p:blipFill>
        <p:spPr>
          <a:xfrm>
            <a:off x="6732720" y="3645000"/>
            <a:ext cx="1523880" cy="1485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group mentoring"/>
          <p:cNvPicPr/>
          <p:nvPr/>
        </p:nvPicPr>
        <p:blipFill>
          <a:blip r:embed="rId6"/>
          <a:stretch/>
        </p:blipFill>
        <p:spPr>
          <a:xfrm>
            <a:off x="6659640" y="2205000"/>
            <a:ext cx="1523880" cy="148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403280" y="4797360"/>
            <a:ext cx="669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1 razvio saradnički/partnerski odnos sa 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MOŠ 2 razvio saradnički/partnerski odnos sa 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Na lokalu stvoreni  uslovi za  zajedničke  akcije   PO MOŠ/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2050920" y="328464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2050920" y="2637000"/>
            <a:ext cx="800280" cy="561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132000" y="2852640"/>
            <a:ext cx="2667240" cy="838440"/>
          </a:xfrm>
          <a:prstGeom prst="leftRightArrow">
            <a:avLst>
              <a:gd name="adj1" fmla="val 50000"/>
              <a:gd name="adj2" fmla="val 6332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8579600">
            <a:off x="2778840" y="277380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2875200">
            <a:off x="2759040" y="2865240"/>
            <a:ext cx="3600360" cy="838080"/>
          </a:xfrm>
          <a:prstGeom prst="leftRightArrow">
            <a:avLst>
              <a:gd name="adj1" fmla="val 50000"/>
              <a:gd name="adj2" fmla="val 855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9"/>
          <a:stretch/>
        </p:blipFill>
        <p:spPr>
          <a:xfrm>
            <a:off x="7020000" y="3068640"/>
            <a:ext cx="799920" cy="561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5185800">
            <a:off x="2758680" y="2649240"/>
            <a:ext cx="3600720" cy="838080"/>
          </a:xfrm>
          <a:prstGeom prst="leftRightArrow">
            <a:avLst>
              <a:gd name="adj1" fmla="val 50000"/>
              <a:gd name="adj2" fmla="val 85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2133720"/>
            <a:ext cx="8378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17524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Dobiti od </a:t>
            </a:r>
            <a:r>
              <a:rPr b="0" lang="sr-Latn-CS" sz="4000" spc="-1" strike="noStrike">
                <a:solidFill>
                  <a:srgbClr val="ff0000"/>
                </a:solidFill>
                <a:latin typeface="Arial"/>
              </a:rPr>
              <a:t>mentorstv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mentore/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icanje novih znanja i iskust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vrda postojećih veština i razvoj novi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lika za razmišlj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ično zadovolj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obijanje slike o ambicijama, talentima i percepcijama novih početnika/počet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2362320"/>
            <a:ext cx="4038480" cy="34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0000"/>
                </a:solidFill>
                <a:latin typeface="Arial"/>
              </a:rPr>
              <a:t>Za početnike/primao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ijanje samopouzd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olji profesionalni i lični razvo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plana razvo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gradnja ličnih kapacit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mena znanja i iskus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enadžersko tutorst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širenje mre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eiranje savezništ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poznavanje sa drugim organizacionim kultu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21046800">
            <a:off x="1332360" y="907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omic Sans MS"/>
              </a:rPr>
              <a:t>Zašto biti u mentorskom odnos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07:33:37Z</dcterms:created>
  <dc:creator>vali</dc:creator>
  <dc:description/>
  <dc:language>en-US</dc:language>
  <cp:lastModifiedBy>Valerija Živković</cp:lastModifiedBy>
  <dcterms:modified xsi:type="dcterms:W3CDTF">2012-06-26T09:14:01Z</dcterms:modified>
  <cp:revision>20</cp:revision>
  <dc:subject/>
  <dc:title>Slide 1</dc:title>
</cp:coreProperties>
</file>